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B52-C928-435E-B4D2-DECE2A53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885-BF71-438C-B896-F2BEBEBE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564-BDDC-43DD-B69C-7F00527B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778-8EEC-4CD2-911F-5BDC39E5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5C22-4CC1-4010-BE5B-75B9B46D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4FC8-F2BF-48FD-9022-F5531F3D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0821-AD11-42DE-8283-F507C49A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EFD8-1A88-4ABC-8626-FF1D61A3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A25B-0379-44A6-8D76-25121076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FB32-955E-4774-968A-2E33F016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65C0-21F2-4ABC-AA33-7908901C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4F2-E028-475D-A25F-2974F231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ED3B-9D6B-476B-97CB-C65D07C0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9CD6-1034-46E3-94E5-1490CF9A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0AC8-87D4-47BC-8C6E-C0E910A3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B31F-4799-4794-A340-531E20FC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3500-9FF5-494E-BA59-2CD1709E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4D6DE-73EF-4F60-86D5-080F9450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B8934-EB4A-4DFB-B923-79A778E9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D4255-DEB0-47A4-BBCF-D0F822BC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EACF5-7E50-46B6-BC3F-65472BE8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2C159-8D04-460B-B441-B80D39C9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4E0-202A-4C9D-8373-02AC9C55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72B61-4FB1-44E6-A103-0AE596FA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B0D5F-64D2-4FE6-AED8-4DFEB4ED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BA2D2-BDC4-40D1-B590-4545ED7C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17A04-7748-4BA5-99AF-01B431C3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7647F-E4F0-4C17-8409-360CF007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A48AB-E49D-4379-9857-95A8BE59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7E85E-C03D-4437-A7E0-6C20733D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706-B69C-4BD3-B15F-756141D6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034-F09B-408D-8C50-FEECD4F5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75F-02E3-4B35-BBD6-11DCCA07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03A-7D5D-4C2C-9BA9-65773C15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648-C8D0-4658-AF6B-E1BC3A21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DFA-E41D-4A62-A211-B2B6BBAD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9AC9-C797-459D-8522-B382CB9F29C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678C-A05C-44D9-8D24-C91FD7E9C2A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8B34-C3DA-4D13-915F-228850C850C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3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Прямоугольник 8"/>
          <p:cNvGrpSpPr/>
          <p:nvPr/>
        </p:nvGrpSpPr>
        <p:grpSpPr>
          <a:xfrm>
            <a:off x="324000" y="620640"/>
            <a:ext cx="7921080" cy="5829840"/>
            <a:chOff x="324000" y="620640"/>
            <a:chExt cx="7921080" cy="5829840"/>
          </a:xfrm>
        </p:grpSpPr>
        <p:pic>
          <p:nvPicPr>
            <p:cNvPr id="16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24000" y="620640"/>
              <a:ext cx="7921080" cy="582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52160" y="985680"/>
              <a:ext cx="7664400" cy="47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84360" y="141300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341360"/>
            <a:ext cx="705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1052640"/>
            <a:ext cx="70563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7b"/>
                </a:solidFill>
                <a:latin typeface="Times New Roman"/>
              </a:rPr>
              <a:t>Муниципальное автономное дошкольное образовательное учреждение  д/с №11 «Лазурный» муниципального образования город-курорт Ана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3764"/>
                </a:solidFill>
                <a:latin typeface="Times New Roman"/>
              </a:rPr>
              <a:t>Сотрудничество учителя-логопеда и воспитателя при постановке свистящих и шипящих звуков у детей с ОВ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3764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7077b"/>
                </a:solidFill>
                <a:latin typeface="Times New Roman"/>
              </a:rPr>
              <a:t>Учитель-логопед </a:t>
            </a:r>
            <a:r>
              <a:rPr b="1" i="1" lang="ru-RU" sz="2000" spc="-1" strike="noStrike">
                <a:solidFill>
                  <a:srgbClr val="07077b"/>
                </a:solidFill>
                <a:latin typeface="Times New Roman"/>
              </a:rPr>
              <a:t>высшей квалификационной категории МАДОУ№ 11 «Лазурный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77b"/>
                </a:solidFill>
                <a:latin typeface="Times New Roman"/>
              </a:rPr>
              <a:t>Чипизубова Еле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0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Прямоугольник 8"/>
          <p:cNvGrpSpPr/>
          <p:nvPr/>
        </p:nvGrpSpPr>
        <p:grpSpPr>
          <a:xfrm>
            <a:off x="468360" y="476280"/>
            <a:ext cx="8064000" cy="6118560"/>
            <a:chOff x="468360" y="476280"/>
            <a:chExt cx="8064000" cy="6118560"/>
          </a:xfrm>
        </p:grpSpPr>
        <p:pic>
          <p:nvPicPr>
            <p:cNvPr id="24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68360" y="476280"/>
              <a:ext cx="8064000" cy="611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98680" y="859320"/>
              <a:ext cx="7803000" cy="49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73764"/>
                  </a:solidFill>
                  <a:latin typeface="Times New Roman"/>
                </a:rPr>
                <a:t>Планирован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73764"/>
                  </a:solidFill>
                  <a:latin typeface="Times New Roman"/>
                </a:rPr>
                <a:t>коррекционно-образовательной  рабо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7077b"/>
                  </a:solidFill>
                  <a:latin typeface="Times New Roman"/>
                </a:rPr>
                <a:t>В плане воспитатели выделяют графу «Коррекционная работ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7077b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Артикуляционная гимна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2. Дыхательная гимна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3. Пальчиковая гимна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4.Формирование фонетического восприя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5. Формирование лексико-грамматических представ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6. Развитие ВПФ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7. Связная реч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8. Формирование навыков звукового анали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9. Контроль за произношение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187280" y="1413000"/>
            <a:ext cx="67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8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Прямоугольник 8"/>
          <p:cNvGrpSpPr/>
          <p:nvPr/>
        </p:nvGrpSpPr>
        <p:grpSpPr>
          <a:xfrm>
            <a:off x="250920" y="476280"/>
            <a:ext cx="7921080" cy="6189840"/>
            <a:chOff x="250920" y="476280"/>
            <a:chExt cx="7921080" cy="6189840"/>
          </a:xfrm>
        </p:grpSpPr>
        <p:pic>
          <p:nvPicPr>
            <p:cNvPr id="2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250920" y="476280"/>
              <a:ext cx="7921080" cy="618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79080" y="863640"/>
              <a:ext cx="7664400" cy="50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c73764"/>
                  </a:solidFill>
                  <a:latin typeface="Times New Roman"/>
                </a:rPr>
                <a:t>Особенности сотрудничества педагогов           в ДОУ «Лазурный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.</a:t>
              </a:r>
              <a:r>
                <a:rPr b="1" lang="ru-RU" sz="2800" spc="-1" strike="noStrike">
                  <a:solidFill>
                    <a:srgbClr val="07077b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Ознакомление воспитателей с результатами обследования детей в начале учебного г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2. Составление годового плана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3.  Создание предметно-развивающей и речевой сре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4. Изготовление, подбор контуров, трафаретов, дидактических и настольно-печатных игр на заданный звук и по всем темам; оформление книжного и родительского уголк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5. Ведение журнала взаимодействия воспитателей и учителя-логопед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84360" y="141300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6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Прямоугольник 8"/>
          <p:cNvGrpSpPr/>
          <p:nvPr/>
        </p:nvGrpSpPr>
        <p:grpSpPr>
          <a:xfrm>
            <a:off x="468360" y="907920"/>
            <a:ext cx="7919640" cy="5758200"/>
            <a:chOff x="468360" y="907920"/>
            <a:chExt cx="7919640" cy="5758200"/>
          </a:xfrm>
        </p:grpSpPr>
        <p:pic>
          <p:nvPicPr>
            <p:cNvPr id="25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68360" y="907920"/>
              <a:ext cx="7919640" cy="57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96520" y="1268280"/>
              <a:ext cx="7663320" cy="46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8. Использование </a:t>
              </a:r>
              <a:r>
                <a:rPr b="1" i="1" lang="ru-RU" sz="2000" spc="-1" strike="noStrike">
                  <a:solidFill>
                    <a:srgbClr val="07077b"/>
                  </a:solidFill>
                  <a:latin typeface="Times New Roman"/>
                </a:rPr>
                <a:t>логопедических пятиминуток </a:t>
              </a: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в повседневной работе (использование различных видов гимнастик – дыхательной, зрительной, пальчиковой, артикуляционной)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9. Проектный мето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0. Организация и проведение конкурса чтецов. Заучивание стихов по каждой лексической тем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1. Драматизация стихов, сказок, рассказ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2. Составление предложений, рассказов по схемам и мнемотаблица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3. Выполнение упражнений на межполушарное взаимодействи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4. Мультипликационная студ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5. Взаимодействие с родителям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84360" y="141300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4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Прямоугольник 8"/>
          <p:cNvGrpSpPr/>
          <p:nvPr/>
        </p:nvGrpSpPr>
        <p:grpSpPr>
          <a:xfrm>
            <a:off x="250920" y="907920"/>
            <a:ext cx="7921080" cy="5758200"/>
            <a:chOff x="250920" y="907920"/>
            <a:chExt cx="7921080" cy="5758200"/>
          </a:xfrm>
        </p:grpSpPr>
        <p:pic>
          <p:nvPicPr>
            <p:cNvPr id="26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250920" y="907920"/>
              <a:ext cx="7921080" cy="57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79080" y="1268280"/>
              <a:ext cx="7664400" cy="46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73764"/>
                  </a:solidFill>
                  <a:latin typeface="Times New Roman"/>
                </a:rPr>
                <a:t>Таким образом, и логопед, и воспитатель должны ясно представлять характер и особенности своей работы, чтобы, помогая друг другу, </a:t>
              </a:r>
              <a:r>
                <a:rPr b="1" lang="ru-RU" sz="3200" spc="-1" strike="noStrike">
                  <a:solidFill>
                    <a:srgbClr val="c73764"/>
                  </a:solidFill>
                  <a:latin typeface="Times New Roman"/>
                </a:rPr>
                <a:t>достичь единой цели</a:t>
              </a:r>
              <a:r>
                <a:rPr b="0" lang="ru-RU" sz="3200" spc="-1" strike="noStrike">
                  <a:solidFill>
                    <a:srgbClr val="c73764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7077b"/>
                  </a:solidFill>
                  <a:latin typeface="Times New Roman"/>
                </a:rPr>
                <a:t>–</a:t>
              </a:r>
              <a:r>
                <a:rPr b="0" lang="ru-RU" sz="3200" spc="-1" strike="noStrike">
                  <a:solidFill>
                    <a:srgbClr val="c73764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7077b"/>
                  </a:solidFill>
                  <a:latin typeface="Times New Roman"/>
                </a:rPr>
                <a:t>воспитать у ребёнка правильную речь и подготовить его для успешного обучения в школе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11280" y="1484280"/>
            <a:ext cx="72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2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Прямоугольник 8"/>
          <p:cNvGrpSpPr/>
          <p:nvPr/>
        </p:nvGrpSpPr>
        <p:grpSpPr>
          <a:xfrm>
            <a:off x="250920" y="692280"/>
            <a:ext cx="8208360" cy="6162840"/>
            <a:chOff x="250920" y="692280"/>
            <a:chExt cx="8208360" cy="6162840"/>
          </a:xfrm>
        </p:grpSpPr>
        <p:pic>
          <p:nvPicPr>
            <p:cNvPr id="27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250920" y="692280"/>
              <a:ext cx="820836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383760" y="1078200"/>
              <a:ext cx="7942680" cy="49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84360" y="141300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119700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73764"/>
                </a:solidFill>
                <a:latin typeface="Times New Roman"/>
              </a:rPr>
              <a:t>ЖЕЛАЮ  ПРИЯТНОГО  ПРОСМОТРА И  УСПЕХОВ В РЕАЛИЗАЦИИ ПРОФЕССИОНАЛЬНЫХ </a:t>
            </a:r>
            <a:r>
              <a:rPr b="1" i="1" lang="en-US" sz="2400" spc="-1" strike="noStrike">
                <a:solidFill>
                  <a:srgbClr val="c73764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73764"/>
                </a:solidFill>
                <a:latin typeface="Times New Roman"/>
              </a:rPr>
              <a:t>НАВЫКОВ</a:t>
            </a:r>
            <a:r>
              <a:rPr b="1" lang="ru-RU" sz="2400" spc="-1" strike="noStrike">
                <a:solidFill>
                  <a:srgbClr val="c73764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73764"/>
                </a:solidFill>
                <a:latin typeface="Times New Roman"/>
              </a:rPr>
              <a:t>В УСЛОВИЯХ </a:t>
            </a:r>
            <a:r>
              <a:rPr b="1" i="1" lang="en-US" sz="2400" spc="-1" strike="noStrike">
                <a:solidFill>
                  <a:srgbClr val="c73764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73764"/>
                </a:solidFill>
                <a:latin typeface="Times New Roman"/>
              </a:rPr>
              <a:t>ДЕЯТЕЛЬНОСТИ   ДОУ!!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395280" y="3068640"/>
            <a:ext cx="2952720" cy="27367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276720" y="270828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МАДОУ детский сад №11 «Лазурный» город-курорт Анапа, ул.Лазурная,12 </a:t>
            </a:r>
            <a:br>
              <a:rPr sz="2400"/>
            </a:br>
            <a:r>
              <a:rPr b="1" lang="en-US" sz="2400" spc="-1" strike="noStrike">
                <a:solidFill>
                  <a:srgbClr val="07077b"/>
                </a:solidFill>
                <a:latin typeface="Times New Roman"/>
              </a:rPr>
              <a:t>e</a:t>
            </a: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7077b"/>
                </a:solidFill>
                <a:latin typeface="Times New Roman"/>
              </a:rPr>
              <a:t>mail</a:t>
            </a: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7077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7077b"/>
                </a:solidFill>
                <a:latin typeface="Times New Roman"/>
              </a:rPr>
              <a:t>lazyrniyds</a:t>
            </a:r>
            <a:r>
              <a:rPr b="0" lang="ru-RU" sz="2400" spc="-1" strike="noStrike">
                <a:solidFill>
                  <a:srgbClr val="07077b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7077b"/>
                </a:solidFill>
                <a:latin typeface="Times New Roman"/>
              </a:rPr>
              <a:t>@mail.ru</a:t>
            </a:r>
            <a:br>
              <a:rPr sz="2400"/>
            </a:b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Заведующий: </a:t>
            </a:r>
            <a:r>
              <a:rPr b="1" i="1" lang="en-US" sz="2400" spc="-1" strike="noStrike">
                <a:solidFill>
                  <a:srgbClr val="07077b"/>
                </a:solidFill>
                <a:latin typeface="Times New Roman"/>
              </a:rPr>
              <a:t>C</a:t>
            </a:r>
            <a:r>
              <a:rPr b="1" i="1" lang="ru-RU" sz="2400" spc="-1" strike="noStrike">
                <a:solidFill>
                  <a:srgbClr val="07077b"/>
                </a:solidFill>
                <a:latin typeface="Times New Roman"/>
              </a:rPr>
              <a:t>улименко Светлана  Александров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3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4" name="Прямоугольник 8"/>
          <p:cNvGrpSpPr/>
          <p:nvPr/>
        </p:nvGrpSpPr>
        <p:grpSpPr>
          <a:xfrm>
            <a:off x="395280" y="907920"/>
            <a:ext cx="8567280" cy="5614200"/>
            <a:chOff x="395280" y="907920"/>
            <a:chExt cx="8567280" cy="5614200"/>
          </a:xfrm>
        </p:grpSpPr>
        <p:pic>
          <p:nvPicPr>
            <p:cNvPr id="17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95280" y="907920"/>
              <a:ext cx="8567280" cy="56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33880" y="1259280"/>
              <a:ext cx="8289720" cy="453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73764"/>
                  </a:solidFill>
                  <a:latin typeface="Times New Roman"/>
                </a:rPr>
                <a:t>Успех коррекционной логопедической работы в условиях группы для детей с речевой патологией во многом зависит от слаженности в работе педагогов, а особенно от взаимосвязи, преемственности в работе воспитателя и учителя-логопеда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Учитель-логопед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исправляет нарушение звукопроизношения свистящих зву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воспитатель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активно участвует в коррекционной работ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-181080" y="126828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0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-541440" y="0"/>
            <a:ext cx="950616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Прямоугольник 8"/>
          <p:cNvGrpSpPr/>
          <p:nvPr/>
        </p:nvGrpSpPr>
        <p:grpSpPr>
          <a:xfrm>
            <a:off x="0" y="907920"/>
            <a:ext cx="7884720" cy="5614200"/>
            <a:chOff x="0" y="907920"/>
            <a:chExt cx="7884720" cy="561420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0" y="907920"/>
              <a:ext cx="7884720" cy="56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27440" y="1259280"/>
              <a:ext cx="7629480" cy="453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68360" y="16286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1477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1484280"/>
            <a:ext cx="705672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73764"/>
                </a:solidFill>
                <a:latin typeface="Arial"/>
              </a:rPr>
              <a:t>Сотрудничество учителя-логопеда и воспитателя  направлено на решение основных зада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77b"/>
                </a:solidFill>
                <a:latin typeface="Arial"/>
              </a:rPr>
              <a:t>*выявление детей, имеющих речевые нарушения свистящих и шипящих зв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77b"/>
                </a:solidFill>
                <a:latin typeface="Arial"/>
              </a:rPr>
              <a:t>*коррекция речевых нару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77b"/>
                </a:solidFill>
                <a:latin typeface="Arial"/>
              </a:rPr>
              <a:t>*профилактика возникновения речевых нару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0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Прямоугольник 8"/>
          <p:cNvGrpSpPr/>
          <p:nvPr/>
        </p:nvGrpSpPr>
        <p:grpSpPr>
          <a:xfrm>
            <a:off x="324000" y="907920"/>
            <a:ext cx="7919640" cy="5687280"/>
            <a:chOff x="324000" y="907920"/>
            <a:chExt cx="7919640" cy="5687280"/>
          </a:xfrm>
        </p:grpSpPr>
        <p:pic>
          <p:nvPicPr>
            <p:cNvPr id="1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24000" y="907920"/>
              <a:ext cx="7919640" cy="56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52160" y="1263960"/>
              <a:ext cx="7663320" cy="45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0" y="1197000"/>
            <a:ext cx="73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1557360"/>
            <a:ext cx="755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73764"/>
                </a:solidFill>
                <a:latin typeface="Times New Roman"/>
              </a:rPr>
              <a:t>Планирование скоординированной работы учителя-логопеда и воспитателя в группе компенсирующей направленности для детей с ТНР осуществляется в следующих направления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077b"/>
                </a:solidFill>
                <a:latin typeface="Times New Roman"/>
              </a:rPr>
              <a:t>1. коррекционно-развиваю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077b"/>
                </a:solidFill>
                <a:latin typeface="Times New Roman"/>
              </a:rPr>
              <a:t>2. общеобразов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077b"/>
                </a:solidFill>
                <a:latin typeface="Times New Roman"/>
              </a:rPr>
              <a:t>3. воспит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9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-541440" y="0"/>
            <a:ext cx="950616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Прямоугольник 8"/>
          <p:cNvGrpSpPr/>
          <p:nvPr/>
        </p:nvGrpSpPr>
        <p:grpSpPr>
          <a:xfrm>
            <a:off x="-181080" y="836640"/>
            <a:ext cx="8353080" cy="5829480"/>
            <a:chOff x="-181080" y="836640"/>
            <a:chExt cx="8353080" cy="5829480"/>
          </a:xfrm>
        </p:grpSpPr>
        <p:pic>
          <p:nvPicPr>
            <p:cNvPr id="20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181080" y="836640"/>
              <a:ext cx="835308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-45720" y="1201680"/>
              <a:ext cx="8082360" cy="47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73764"/>
                  </a:solidFill>
                  <a:latin typeface="Times New Roman"/>
                </a:rPr>
                <a:t>Работа при коррекции звукопроизнош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Учитель-логопед: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исправляет нарушение речи: готовит артикуляционный уклад дефектных звуков, ставит их, автоматизирует и дифференциру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Воспитатель: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под руководством логопеда активно участвует в коррекционной работе: автоматизирует поставленные звуки в словах, словосочетаниях, в связной ре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68360" y="1413000"/>
            <a:ext cx="734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07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Прямоугольник 8"/>
          <p:cNvGrpSpPr/>
          <p:nvPr/>
        </p:nvGrpSpPr>
        <p:grpSpPr>
          <a:xfrm>
            <a:off x="324000" y="692280"/>
            <a:ext cx="8208360" cy="6162840"/>
            <a:chOff x="324000" y="692280"/>
            <a:chExt cx="8208360" cy="6162840"/>
          </a:xfrm>
        </p:grpSpPr>
        <p:pic>
          <p:nvPicPr>
            <p:cNvPr id="21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24000" y="692280"/>
              <a:ext cx="820836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56840" y="1078200"/>
              <a:ext cx="7942680" cy="49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73764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c73764"/>
                  </a:solidFill>
                  <a:latin typeface="Times New Roman"/>
                </a:rPr>
                <a:t>I </a:t>
              </a:r>
              <a:r>
                <a:rPr b="1" lang="ru-RU" sz="3200" spc="-1" strike="noStrike">
                  <a:solidFill>
                    <a:srgbClr val="c73764"/>
                  </a:solidFill>
                  <a:latin typeface="Times New Roman"/>
                </a:rPr>
                <a:t>Подготовительный этап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c73764"/>
                  </a:solidFill>
                  <a:latin typeface="Arial"/>
                </a:rPr>
                <a:t>  </a:t>
              </a:r>
              <a:r>
                <a:rPr b="1" i="1" lang="ru-RU" sz="1800" spc="-1" strike="noStrike">
                  <a:solidFill>
                    <a:srgbClr val="c73764"/>
                  </a:solidFill>
                  <a:latin typeface="Arial"/>
                </a:rPr>
                <a:t>Цель: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1" i="1" lang="ru-RU" sz="1800" spc="-1" strike="noStrike">
                  <a:solidFill>
                    <a:srgbClr val="07077b"/>
                  </a:solidFill>
                  <a:latin typeface="Arial"/>
                </a:rPr>
                <a:t>подготовка речедвигательного и речеслухового     анализатора к правильному произношению и воспроизведению звука.</a:t>
              </a:r>
              <a:r>
                <a:rPr b="0" i="1" lang="ru-RU" sz="1800" spc="-1" strike="noStrike">
                  <a:solidFill>
                    <a:srgbClr val="07077b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  </a:t>
              </a: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Учитель-логопед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, в зависимости от характера нарушения звука у ребёнка, вырабатывает и тренирует движения органов артикуляционного аппарат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Воспитатель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по заданию логопеда в игровой форме закрепляет у детей движения и положения органов артикуляционного аппарат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84360" y="105264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5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6186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Прямоугольник 8"/>
          <p:cNvGrpSpPr/>
          <p:nvPr/>
        </p:nvGrpSpPr>
        <p:grpSpPr>
          <a:xfrm>
            <a:off x="250920" y="404640"/>
            <a:ext cx="8137080" cy="6450120"/>
            <a:chOff x="250920" y="404640"/>
            <a:chExt cx="8137080" cy="6450120"/>
          </a:xfrm>
        </p:grpSpPr>
        <p:pic>
          <p:nvPicPr>
            <p:cNvPr id="21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250920" y="404640"/>
              <a:ext cx="8137080" cy="645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382320" y="808560"/>
              <a:ext cx="7873560" cy="52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0" y="28526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907920"/>
            <a:ext cx="7345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3764"/>
                </a:solidFill>
                <a:latin typeface="Times New Roman"/>
              </a:rPr>
              <a:t>II </a:t>
            </a:r>
            <a:r>
              <a:rPr b="1" lang="ru-RU" sz="3200" spc="-1" strike="noStrike">
                <a:solidFill>
                  <a:srgbClr val="c73764"/>
                </a:solidFill>
                <a:latin typeface="Times New Roman"/>
              </a:rPr>
              <a:t>Этап появления зв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73764"/>
                </a:solidFill>
                <a:latin typeface="Times New Roman"/>
              </a:rPr>
              <a:t>Цель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000" spc="-1" strike="noStrike">
                <a:solidFill>
                  <a:srgbClr val="07077b"/>
                </a:solidFill>
                <a:latin typeface="Times New Roman"/>
              </a:rPr>
              <a:t>добиться правильного звучания изолированного зву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77b"/>
                </a:solidFill>
                <a:latin typeface="Times New Roman"/>
              </a:rPr>
              <a:t>Учитель-логопед </a:t>
            </a: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ставит звуки, предварительно отрабатывая артикуляционный уклад нужного звука, при этом использует специальные приёмы и отработанные на предыдущем этапе движения органов артикуляционного ап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77b"/>
                </a:solidFill>
                <a:latin typeface="Times New Roman"/>
              </a:rPr>
              <a:t>Воспитатель </a:t>
            </a: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закрепляет произнесение поставленного логопедом звука, фиксируя внимание ребёнка на его звучании и артикуляции, используя картинки-символы и звукоподраж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24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-541440" y="0"/>
            <a:ext cx="90010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Прямоугольник 8"/>
          <p:cNvGrpSpPr/>
          <p:nvPr/>
        </p:nvGrpSpPr>
        <p:grpSpPr>
          <a:xfrm>
            <a:off x="-468360" y="0"/>
            <a:ext cx="8711640" cy="6854760"/>
            <a:chOff x="-468360" y="0"/>
            <a:chExt cx="8711640" cy="6854760"/>
          </a:xfrm>
        </p:grpSpPr>
        <p:pic>
          <p:nvPicPr>
            <p:cNvPr id="22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468360" y="0"/>
              <a:ext cx="871164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-327240" y="429120"/>
              <a:ext cx="8429760" cy="55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73764"/>
                  </a:solidFill>
                  <a:latin typeface="Times New Roman"/>
                </a:rPr>
                <a:t>  </a:t>
              </a:r>
              <a:r>
                <a:rPr b="1" i="1" lang="en-US" sz="3200" spc="-1" strike="noStrike">
                  <a:solidFill>
                    <a:srgbClr val="c73764"/>
                  </a:solidFill>
                  <a:latin typeface="Times New Roman"/>
                </a:rPr>
                <a:t>III  </a:t>
              </a:r>
              <a:r>
                <a:rPr b="1" i="1" lang="ru-RU" sz="3200" spc="-1" strike="noStrike">
                  <a:solidFill>
                    <a:srgbClr val="c73764"/>
                  </a:solidFill>
                  <a:latin typeface="Times New Roman"/>
                </a:rPr>
                <a:t>Этап усвоения звук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73764"/>
                  </a:solidFill>
                  <a:latin typeface="Times New Roman"/>
                </a:rPr>
                <a:t>Цель: </a:t>
              </a:r>
              <a:r>
                <a:rPr b="1" i="1" lang="ru-RU" sz="2000" spc="-1" strike="noStrike">
                  <a:solidFill>
                    <a:srgbClr val="07077b"/>
                  </a:solidFill>
                  <a:latin typeface="Times New Roman"/>
                </a:rPr>
                <a:t>научить ребенка правильно произносить уже поставленный звук изолированно, затем в слогах, словах, фразах;</a:t>
              </a:r>
              <a:r>
                <a:rPr b="0" lang="ru-RU" sz="2000" spc="-1" strike="noStrike">
                  <a:solidFill>
                    <a:srgbClr val="07077b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7077b"/>
                  </a:solidFill>
                  <a:latin typeface="Times New Roman"/>
                </a:rPr>
                <a:t>научить различать смешиваемые звуки и правильно употреблять их в собственной реч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Учитель-логопед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автоматизирует поставленные звуки, первично дифференцирует на слух и в произношении, последовательно вводит его в речь (в слог, слово, предложение, в самостоятельную реч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Воспитатель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по заданию логопеда с отдельными детьми закрепляет поставленный логопедом звук, дифференцирует со смешиваемыми фонемами на слух, и в произношении, используя речевой материал, рекомендуемый логопедо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68360" y="16286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2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-541440" y="0"/>
            <a:ext cx="900108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Прямоугольник 8"/>
          <p:cNvGrpSpPr/>
          <p:nvPr/>
        </p:nvGrpSpPr>
        <p:grpSpPr>
          <a:xfrm>
            <a:off x="-252360" y="692280"/>
            <a:ext cx="8353080" cy="5829480"/>
            <a:chOff x="-252360" y="692280"/>
            <a:chExt cx="8353080" cy="5829480"/>
          </a:xfrm>
        </p:grpSpPr>
        <p:pic>
          <p:nvPicPr>
            <p:cNvPr id="23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252360" y="692280"/>
              <a:ext cx="835308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-117000" y="1057320"/>
              <a:ext cx="8082360" cy="47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73764"/>
                  </a:solidFill>
                  <a:latin typeface="Times New Roman"/>
                </a:rPr>
                <a:t>Условия, необходимые для формирования у дошкольников правильного звукопроизношения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7077b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Целесообразно использовать все анализаторы. Опора на кинестетические ощущения способствует осознанному звучанию ре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2. Отработка звуков, смешиваемых в речи детей, осуществляется поэтапно и распределена в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3. Закрепление поставленных свистящих звуков в процессе дифференциации всех близких зву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68360" y="16286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09:47:59Z</dcterms:created>
  <dc:creator>user</dc:creator>
  <dc:description/>
  <dc:language>en-US</dc:language>
  <cp:lastModifiedBy>12</cp:lastModifiedBy>
  <dcterms:modified xsi:type="dcterms:W3CDTF">2023-03-29T09:35:49Z</dcterms:modified>
  <cp:revision>55</cp:revision>
  <dc:subject/>
  <dc:title>ТЕХНОЛОГИЯ  КОРРЕКЦИОННОЙ                РАБОТЫ ПО ФОРМИРОВАНИЮ             ПИСЬМЕННОЙ РЕЧИ У ДЕТЕЙ       ДОШКОЛЬНОГО ВОЗРАСТА С ОНР                Чипизубова  Елена  Александровна           учитель – логопед высшей категории          Муниципального  бюджетного дошкольного                образовательного учреждения   детский сад компенсирующего вида №2«Орлёнок»             муниципального образования                    город-курорт Анапа</dc:title>
</cp:coreProperties>
</file>